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5BE-BE4F-44C4-8BC3-A5AEFF1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238-7621-42C0-B52E-A6AF690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430-B514-44CC-9C19-ED854738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D20-BDAD-4460-8CEE-B139056F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37F-45A2-43F7-8474-8C2D4B4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8BD-2403-4408-9624-7FF464F3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004-7D2B-4706-909C-31C0C49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657-A089-4525-8C6D-7EE3B9C6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5F3-1836-498E-948D-ACEB84D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872-55AA-4121-89A0-E387140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348-0F04-4C6E-BF81-F4F7964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F27-6CC0-4E61-8A25-70C5002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D33-FF72-482A-AD4A-A968D45D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48320"/>
            <a:ext cx="1828800" cy="10666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sn, 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3581280"/>
            <a:ext cx="2590920" cy="1981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lab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5812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ad Sequential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3048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358128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ad indexed file based on SSN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429000" y="28195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6668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f amt is &lt;= available money (credit – balance), then subtract the amount, otherwise do no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004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Update file if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438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219320"/>
            <a:ext cx="37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rint result to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3581280"/>
            <a:ext cx="2590920" cy="1981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lab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3048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9000" y="28195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6576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ad indexed file based on SSN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438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219320"/>
            <a:ext cx="37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int data to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219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t SSN from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581280"/>
            <a:ext cx="2590920" cy="1981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lab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048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429000" y="28195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6576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ad indexed file sequ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38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219320"/>
            <a:ext cx="37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rint data to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20:56:27Z</dcterms:created>
  <dc:creator>Widener University</dc:creator>
  <dc:description/>
  <dc:language>en-US</dc:language>
  <cp:lastModifiedBy>Widener University</cp:lastModifiedBy>
  <dcterms:modified xsi:type="dcterms:W3CDTF">2011-04-12T21:00:05Z</dcterms:modified>
  <cp:revision>2</cp:revision>
  <dc:subject/>
  <dc:title>Slide 1</dc:title>
</cp:coreProperties>
</file>